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392-7CC7-4B1E-9855-F2571738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64A-0DC3-4A98-B5F7-A86E44F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C2D-A250-413B-9EED-4C4A27F4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BED-82C7-490E-83B7-47582D8C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43F-0104-4BBF-89F1-6783E076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71F-EA57-4EBB-9597-9A44089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86F-9B22-49BE-B695-3D1FE54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B2A-A776-4D4D-9E0A-F806235A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3FC-A137-44D8-8642-B324EF52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B16-5FDB-4EB7-8B21-EEE113C8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789-82B3-4DE6-89F9-071A65E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17B-42F0-4517-BEA0-F5B7C71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0BA-8FDD-462D-B404-7024FBC696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9640" y="1413000"/>
            <a:ext cx="70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800080"/>
                </a:solidFill>
                <a:latin typeface="Century Gothic"/>
              </a:rPr>
              <a:t>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0080"/>
                </a:solidFill>
                <a:latin typeface="Century Gothic"/>
              </a:rPr>
              <a:t>Curso Gestión de las Organizacione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as relaciones de la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iempre hay una trama de relaciones que cada organización construye, teniendo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1- las relaciones personales de cada integ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2- los objetiv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3- la capacidad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4- la a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o interno y lo ex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l análisis de lo que queremos conseguir/hacer, conociendo el contexto y construyendo las tramas de relaciones, surge: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la organización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ada miembro asume funciones y roles en el marco de las tareas que la organización decide rea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800080"/>
                </a:solidFill>
                <a:uFillTx/>
                <a:latin typeface="Century Gothic"/>
              </a:rPr>
              <a:t>Estrategia vs. volun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El reglamento in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Nos establece para cada t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Qué podemos ha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Qué debemos ha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- Qué no podemos h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5084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941720"/>
            <a:ext cx="42498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entury Gothic"/>
              </a:rPr>
              <a:t>Conocer el estatuto es algo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Roles – relativos a la t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Inici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aporta ideas, sugiere sol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clar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pide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ctiv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impulsa el grupo hacia las decisiones, los objetivos, el cumplimiento de la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Orient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muestra las relaciones entre ideas, integra los aportes, sintetiza, resum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Roles- relativos al mantenimiento del gru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714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Contribuyente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ofrece datos, relaciona su experiencia con objetivos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3032280"/>
            <a:ext cx="8209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rmoniz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hace de intermediario ante los conflictos, es mediador, abre los canales de comunicación, facilita la participación de to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Roles- relativos al mantenimiento del gru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Estimul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elogia, aprueba, acepta. Muestra afecto y solida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Segui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sigue el movimiento del grupo, acepta las ideas de otr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4365720"/>
            <a:ext cx="453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emuestra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aunque no parti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activamente en l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Roles- relativos al mantenimiento del gru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	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Dominador/a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es buscador de reconocimiento, trata de llamar la atención exhibiendo logros personales, trata de imponerse y dirigir al grupo, interrumpe a los demás, monologa no escu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Roles- relativos al mantenimiento del gru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80"/>
                </a:solidFill>
                <a:latin typeface="Century Gothic"/>
              </a:rPr>
              <a:t>Agresor/a</a:t>
            </a:r>
            <a:r>
              <a:rPr b="0" lang="es-AR" sz="28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critica y censura a los demás, expresa a través de gestos o palabras su desaprobación  por los actos, ideas y sentimientos de los demás. Es intolerante e intim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80"/>
                </a:solidFill>
                <a:latin typeface="Century Gothic"/>
              </a:rPr>
              <a:t>Negativista</a:t>
            </a:r>
            <a:r>
              <a:rPr b="0" lang="es-AR" sz="28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interfiere en las tareas, está en desacuerdo o se opone sin razón, discute en momentos poco oportunos y se niega a coop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El grupo en proceso 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entury Gothic"/>
              </a:rPr>
              <a:t>Un proceso que persigue acuerdos y confianza mut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Conflicto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desconfianza, poco acuerdo con los objetivos. No existe el “nosotr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daptación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Poca confianza personal, progresivo acercamiento de los puntos de vista. Sentimiento inicial de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El grupo en proceso 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Desacuerdo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Creciente confianza en el plano personal, falta de acuerdo en el plano objetivo. Creciente sentimiento de “nosotr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Acuerdo</a:t>
            </a:r>
            <a:r>
              <a:rPr b="0" lang="es-AR" sz="3200" spc="-1" strike="noStrike">
                <a:solidFill>
                  <a:srgbClr val="800080"/>
                </a:solidFill>
                <a:latin typeface="Century Gothic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 Elevado grado de confianza entre los miembros del grupo, comunidad de intereses del grupo. Fuerte sentimiento de “nosotros”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39640" y="1413000"/>
            <a:ext cx="70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¿Qué es una organiz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Una Organización es un grupo de personas que tienen necesidades e intereses en común, pero que además trabajan juntas para alcanzar objetivos compar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1413000"/>
            <a:ext cx="70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Pasos hacia la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1- Darnos cuenta que tenemos algo en comú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2- Si decidimos trabajar juntos defini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queremos ha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Cómo lo vamos a ha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¿Qué aportará cada 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Una organización comuni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Una comunidad comparte un mismo territorio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Una acción comunitaria es la que realizan los miembros de una comunidad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4508640"/>
            <a:ext cx="446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Se construye un actor colectiv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800080"/>
                </a:solidFill>
                <a:latin typeface="Century Gothic"/>
              </a:rPr>
              <a:t>un 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Organización-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Al organizarnos sumamos fuer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sto nos da más poder para actuar que hacerlo cada uno por s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645000"/>
            <a:ext cx="4608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se NOSOTROS organizado nos da una herramienta poderosa para tratar de transformar la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Organización-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000000"/>
                </a:solidFill>
                <a:latin typeface="Century Gothic"/>
              </a:rPr>
              <a:t>LA ORGANIZACIÓN SOMOS N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AR" sz="3600" spc="-1" strike="noStrike">
                <a:solidFill>
                  <a:srgbClr val="000000"/>
                </a:solidFill>
                <a:latin typeface="Century Gothic"/>
              </a:rPr>
              <a:t>NOSOTROS SOMOS LA ORGAN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Vida democrática </a:t>
            </a:r>
            <a:br>
              <a:rPr sz="4000"/>
            </a:b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Lo que tenemos en com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9647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La necesidad, el entusiasmo, responsabilidad, compromiso, alegrí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3500280"/>
            <a:ext cx="4897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Que no somos iguales, tenemos características particulares, que hay que reconocer para evitar los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El actor colec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Tener algo en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Darse cu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Organiz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Trabajar 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800080"/>
                </a:solidFill>
                <a:latin typeface="Century Gothic"/>
              </a:rPr>
              <a:t>No estamos so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Contexto/entorn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1- dimensión co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2- dimen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3- dimensión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4- dimensión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5- dimensión p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OSC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5013360"/>
            <a:ext cx="4321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entury Gothic"/>
              </a:rPr>
              <a:t>En cada una interactúan otros actores so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21:34Z</dcterms:created>
  <dc:creator>WinuE</dc:creator>
  <dc:description/>
  <dc:language>en-US</dc:language>
  <cp:lastModifiedBy>crezk</cp:lastModifiedBy>
  <dcterms:modified xsi:type="dcterms:W3CDTF">2011-04-29T13:07:40Z</dcterms:modified>
  <cp:revision>8</cp:revision>
  <dc:subject/>
  <dc:title>ORGANIZACIÓN</dc:title>
</cp:coreProperties>
</file>